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F4DD-21DD-4234-A457-945CCF096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60AF-2BA9-48DD-9623-CBF161F9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AA72-6F67-432C-8271-724249307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EF7D-EE71-44AF-BA2E-B9839532B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D056-3342-44DF-8152-6C10F512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9452-52A3-475C-81A4-DFCF0ECE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6C7C-4794-41DE-BDBB-D6688C1E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DCA0-3304-40A9-A557-86ACCD38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6F06-1BC8-4D75-A493-7B312E4D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3186-F8EE-4ED3-A820-084859BE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467E-05B9-4225-97B9-5238CB5C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6165-CACF-4434-BF12-AF87BBB9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F275-582C-4EA7-B277-8E95AEE09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7560" y="762120"/>
            <a:ext cx="18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ro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20" y="0"/>
            <a:ext cx="151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sion 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6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487480" y="20574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plan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12408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80360" y="3124080"/>
            <a:ext cx="10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5600" y="4381560"/>
            <a:ext cx="16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00400" y="43815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67280" y="4648320"/>
            <a:ext cx="2210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ggered by a surprise 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.g. Org change, Technology change, or business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1" idx="2"/>
            <a:endCxn id="43" idx="0"/>
          </p:cNvCxnSpPr>
          <p:nvPr/>
        </p:nvCxnSpPr>
        <p:spPr>
          <a:xfrm flipH="1">
            <a:off x="1801440" y="1221840"/>
            <a:ext cx="2556360" cy="759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" name=""/>
          <p:cNvCxnSpPr>
            <a:stCxn id="41" idx="2"/>
            <a:endCxn id="44" idx="0"/>
          </p:cNvCxnSpPr>
          <p:nvPr/>
        </p:nvCxnSpPr>
        <p:spPr>
          <a:xfrm>
            <a:off x="4357440" y="1221840"/>
            <a:ext cx="1889640" cy="835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" name=""/>
          <p:cNvCxnSpPr>
            <a:stCxn id="43" idx="2"/>
            <a:endCxn id="46" idx="0"/>
          </p:cNvCxnSpPr>
          <p:nvPr/>
        </p:nvCxnSpPr>
        <p:spPr>
          <a:xfrm>
            <a:off x="1801440" y="2440800"/>
            <a:ext cx="720000" cy="68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" name=""/>
          <p:cNvCxnSpPr>
            <a:stCxn id="43" idx="2"/>
            <a:endCxn id="45" idx="0"/>
          </p:cNvCxnSpPr>
          <p:nvPr/>
        </p:nvCxnSpPr>
        <p:spPr>
          <a:xfrm flipH="1">
            <a:off x="980280" y="2440800"/>
            <a:ext cx="821520" cy="68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" name=""/>
          <p:cNvCxnSpPr>
            <a:stCxn id="46" idx="2"/>
            <a:endCxn id="47" idx="0"/>
          </p:cNvCxnSpPr>
          <p:nvPr/>
        </p:nvCxnSpPr>
        <p:spPr>
          <a:xfrm flipH="1">
            <a:off x="1360800" y="3583800"/>
            <a:ext cx="1160640" cy="798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" name=""/>
          <p:cNvCxnSpPr>
            <a:stCxn id="46" idx="2"/>
            <a:endCxn id="48" idx="0"/>
          </p:cNvCxnSpPr>
          <p:nvPr/>
        </p:nvCxnSpPr>
        <p:spPr>
          <a:xfrm>
            <a:off x="2521080" y="3583800"/>
            <a:ext cx="984240" cy="798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" name=""/>
          <p:cNvSpPr/>
          <p:nvPr/>
        </p:nvSpPr>
        <p:spPr>
          <a:xfrm>
            <a:off x="2895480" y="4800600"/>
            <a:ext cx="2210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ed by completing a set of deliver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.g. end of phase or milest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4480" y="4876920"/>
            <a:ext cx="2180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ed by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.g. weekly, Month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31240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4" idx="2"/>
            <a:endCxn id="58" idx="0"/>
          </p:cNvCxnSpPr>
          <p:nvPr/>
        </p:nvCxnSpPr>
        <p:spPr>
          <a:xfrm>
            <a:off x="6246720" y="2517120"/>
            <a:ext cx="344880" cy="607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" name=""/>
          <p:cNvSpPr/>
          <p:nvPr/>
        </p:nvSpPr>
        <p:spPr>
          <a:xfrm>
            <a:off x="1236600" y="2239920"/>
            <a:ext cx="1093680" cy="1440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8040" y="4641840"/>
            <a:ext cx="16336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08160" y="4626000"/>
            <a:ext cx="1094040" cy="1440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4280" y="1467000"/>
            <a:ext cx="1289160" cy="325440"/>
          </a:xfrm>
          <a:prstGeom prst="wedgeRectCallout">
            <a:avLst>
              <a:gd name="adj1" fmla="val 85958"/>
              <a:gd name="adj2" fmla="val 203171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80"/>
                </a:solidFill>
                <a:latin typeface="Times New Roman"/>
              </a:rPr>
              <a:t>Schedu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83320" y="1619280"/>
            <a:ext cx="1644840" cy="325440"/>
          </a:xfrm>
          <a:prstGeom prst="wedgeRectCallout">
            <a:avLst>
              <a:gd name="adj1" fmla="val -36388"/>
              <a:gd name="adj2" fmla="val 129513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80"/>
                </a:solidFill>
                <a:latin typeface="Times New Roman"/>
              </a:rPr>
              <a:t>Unanticip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76960" y="2319480"/>
            <a:ext cx="163332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5680" y="3808440"/>
            <a:ext cx="1289160" cy="595440"/>
          </a:xfrm>
          <a:prstGeom prst="wedgeRectCallout">
            <a:avLst>
              <a:gd name="adj1" fmla="val 54680"/>
              <a:gd name="adj2" fmla="val 85731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80"/>
                </a:solidFill>
                <a:latin typeface="Times New Roman"/>
              </a:rPr>
              <a:t>Time Trigge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76520" y="3465360"/>
            <a:ext cx="1289160" cy="595440"/>
          </a:xfrm>
          <a:prstGeom prst="wedgeRectCallout">
            <a:avLst>
              <a:gd name="adj1" fmla="val -41870"/>
              <a:gd name="adj2" fmla="val 116134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80"/>
                </a:solidFill>
                <a:latin typeface="Times New Roman"/>
              </a:rPr>
              <a:t>Event Trigge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9T00:00:52Z</dcterms:created>
  <dc:creator>JERRYD</dc:creator>
  <dc:description/>
  <dc:language>en-US</dc:language>
  <cp:lastModifiedBy>JERRYD</cp:lastModifiedBy>
  <dcterms:modified xsi:type="dcterms:W3CDTF">2003-04-29T01:15:17Z</dcterms:modified>
  <cp:revision>3</cp:revision>
  <dc:subject/>
  <dc:title>PowerPoint Presentation</dc:title>
</cp:coreProperties>
</file>